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FFB2-17D3-46D9-A199-F89B238A4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ECF4-BAD0-4325-BD1E-481884014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10F5-999C-4E63-96A8-2B72B25A3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CE3D-9773-4C58-97DD-196CA6A75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95FC-F540-4405-A74D-9A4AA2CE3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3326-5690-4B79-94D3-4058D9461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D834-1F39-4F53-B028-F75D69F00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3A28-C3BF-4968-9E76-FB6205B87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DB1A-8125-4C12-B5F1-38C2C29C6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FCE4-83B6-4687-B9A5-DC6CBD84D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2064-1514-440D-A723-9E17A17D1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1E93-397F-41DE-A590-5EB9273D7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C62B3-3108-4ED5-9B5F-CBE2C2BD0C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76212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Ecole d’Infirmière de la ville de Mas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219320" y="182880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plôme de fin d’étu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23880" y="3352680"/>
            <a:ext cx="609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 diplôme est décerné à Mademoiselle Lydia Raped pour ses résultats aux examens de fin d’études de l’année 197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525780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gnature directe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505320" y="525780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gnature diplôm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324480" y="525780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gnature examinate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HM00173_" descr=""/>
          <p:cNvPicPr/>
          <p:nvPr/>
        </p:nvPicPr>
        <p:blipFill>
          <a:blip r:embed="rId2"/>
          <a:stretch/>
        </p:blipFill>
        <p:spPr>
          <a:xfrm>
            <a:off x="7315200" y="2590920"/>
            <a:ext cx="1569960" cy="2361960"/>
          </a:xfrm>
          <a:prstGeom prst="rect">
            <a:avLst/>
          </a:prstGeom>
          <a:ln w="0">
            <a:noFill/>
          </a:ln>
        </p:spPr>
      </p:pic>
      <p:pic>
        <p:nvPicPr>
          <p:cNvPr id="48" name="BD07834_" descr=""/>
          <p:cNvPicPr/>
          <p:nvPr/>
        </p:nvPicPr>
        <p:blipFill>
          <a:blip r:embed="rId3"/>
          <a:stretch/>
        </p:blipFill>
        <p:spPr>
          <a:xfrm>
            <a:off x="0" y="2590920"/>
            <a:ext cx="210492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7T20:09:10Z</dcterms:created>
  <dc:creator>Pavilion Notebook User</dc:creator>
  <dc:description/>
  <dc:language>en-US</dc:language>
  <cp:lastModifiedBy>austin powers</cp:lastModifiedBy>
  <dcterms:modified xsi:type="dcterms:W3CDTF">2002-05-27T22:05:05Z</dcterms:modified>
  <cp:revision>4</cp:revision>
  <dc:subject/>
  <dc:title>Présentation PowerPoint</dc:title>
</cp:coreProperties>
</file>